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910-31F2-4843-8607-591C93AE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532B-73DE-4771-B7E7-452FD5FD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C27-45A3-4675-B3F0-DCCF207E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164-E917-4C3C-8248-AF0C8DC7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4BB5-9C98-452E-BA9E-7D515BE0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B5E2-A7B9-4C16-AAA0-4D1712CA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5968-3A4B-442C-A6DA-E9AC56BB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5667-F437-4474-8EA8-3417A6D8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2DC8-3F77-4415-8EE0-72F16E8F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B944-DC38-499A-88E0-EFC2817C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F344-E3D1-4DC9-A3B2-1113F227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FBF-EF46-467E-8051-9F09B045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FAD1-1D18-4DE6-BA7A-41752C3C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BF04-A3F6-4964-B879-BB0C832C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BB38-98ED-4CC1-A002-668420B4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4F44-026D-4672-9868-65DD3285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0EEF-455D-4708-8022-F551A87E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756-9B76-42DB-8BA2-76F29CB1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C3C-7221-4305-B9FF-106839ED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FF6-6DF4-4D17-8260-4CFF9198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8FC-159C-4FF3-9530-B572DC3A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62E-D805-40F1-B1D6-F1F0E23F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43B-C832-43DC-8772-68A17658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EC8-CBE4-4F61-A35A-3B18D9E2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BB9E-3E17-4F2E-B258-0946DCCAD2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B51F-44AC-431B-BF56-0F4808AA49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lideshare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bp3.blogger.com/_Jydkd6e1imc/Rf8xezdHJ5I/AAAAAAAAAU0/AxJqfWU27cY/s1600-h/proyector+de+acetato.jp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es/imgres?imgurl=http://www.zaphu.com/v1/wp-content/uploads/2007/12/microsoft-office-logo.png&amp;imgrefurl=http://www.zaphu.com/2007/12/12/how-to-create-a-poster-using-microsoft-powerpoint/&amp;usg=__IZwWFR91Ny6WpGysOy8xXOM7rSw=&amp;h=378&amp;w=519&amp;sz=88&amp;hl=es&amp;start=2&amp;tbnid=UqcsJs_pdn7GFM:&amp;tbnh=95&amp;tbnw=131&amp;prev=/images%3Fq%3Doffice%2Bpowerpoint%2Blogo%26gbv%3D2%26hl%3Des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images.google.es/imgres?imgurl=http://www.fhis.hn/_layouts/paginas/noticias/images/powerpoint_logo.gif&amp;imgrefurl=http://articulo.mercadolibre.com.pe/MPE-4360699-nokia-e65-completamente-nuevo-symbian-3g-office-pdf-zip-_JM&amp;usg=__mh4tRwPUhkrZOPYSlbSyBPLP4R8=&amp;h=256&amp;w=256&amp;sz=25&amp;hl=es&amp;start=1&amp;tbnid=MeR9PC7VUFIzXM:&amp;tbnh=111&amp;tbnw=111&amp;prev=/images%3Fq%3Doffice%2Bpowerpoint%2Blogo%26gbv%3D2%26hl%3Des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sentaciones digita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rramientas para “explicar”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é es una Presentación Digit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 documento multimedia: contie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x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áge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de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l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pósito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tar “algo” ante un públ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jarla disponible en Intern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lideshare.com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rígen de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89684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yectores de diapos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867280" y="1844640"/>
            <a:ext cx="2905200" cy="1743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76360" y="4581360"/>
            <a:ext cx="66596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yectores de transpar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3"/>
          </p:cNvPr>
          <p:cNvPicPr/>
          <p:nvPr/>
        </p:nvPicPr>
        <p:blipFill>
          <a:blip r:embed="rId4"/>
          <a:srcRect l="13744" t="0" r="26664" b="0"/>
          <a:stretch/>
        </p:blipFill>
        <p:spPr>
          <a:xfrm>
            <a:off x="468360" y="3141720"/>
            <a:ext cx="18730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owerPoint de Microsoft Off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pietario (de pag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Impress de OpenOffice.or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oftware lib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08720" y="25653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51640" y="249228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724360" y="4653000"/>
            <a:ext cx="18720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tes de empezar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bjetivo de la presentación cla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deas principales a transmiti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eño adecu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recargado de tex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ágenes que ayuden a comprender el conten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imación, interacción que ayuden e involucren al usuario en la present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 herramien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Nos centraremos en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PowerPoint…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l entorno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uev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chivo/Nue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0" r="0" b="75896"/>
          <a:stretch/>
        </p:blipFill>
        <p:spPr>
          <a:xfrm>
            <a:off x="3851280" y="1752480"/>
            <a:ext cx="4716360" cy="1236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78796" t="15977" r="0" b="19751"/>
          <a:stretch/>
        </p:blipFill>
        <p:spPr>
          <a:xfrm>
            <a:off x="468360" y="2421000"/>
            <a:ext cx="2068560" cy="3673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16360" y="3357720"/>
            <a:ext cx="52560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234720" indent="-2347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panel de Tareas, elegir op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bla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 partir de planti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sist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esentación exist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uev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chivo/Nue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0" t="0" r="0" b="75896"/>
          <a:stretch/>
        </p:blipFill>
        <p:spPr>
          <a:xfrm>
            <a:off x="3851280" y="1752480"/>
            <a:ext cx="4716360" cy="1236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78796" t="15977" r="0" b="19751"/>
          <a:stretch/>
        </p:blipFill>
        <p:spPr>
          <a:xfrm>
            <a:off x="468360" y="2421000"/>
            <a:ext cx="2068560" cy="3673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16360" y="3357720"/>
            <a:ext cx="52560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234720" indent="-2347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panel de Tareas, elegir op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bla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 partir de planti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sist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esentación exist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0:40:35Z</dcterms:created>
  <dc:creator>angel</dc:creator>
  <dc:description/>
  <dc:language>en-US</dc:language>
  <cp:lastModifiedBy>angel</cp:lastModifiedBy>
  <dcterms:modified xsi:type="dcterms:W3CDTF">2009-01-13T11:33:37Z</dcterms:modified>
  <cp:revision>6</cp:revision>
  <dc:subject/>
  <dc:title>Presentaciones digitales</dc:title>
</cp:coreProperties>
</file>