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2451-1C43-457A-AAF5-854BBBFC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0A468-57D2-4DD4-9338-56F0D27B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2B75-8944-4020-9E52-C94FC1C38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8D69-0720-48D6-8C62-A8CD5B0C8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4C26-2B3F-47DE-8204-CC171298B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57667-C830-4F3C-B31E-4D03C03D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E9AB-9607-481B-8040-D4B5B2C42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F081B-683E-4D60-9B28-AA26A26AF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D817-BB07-4324-BC22-6A04AFF2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6AF96-2878-4A14-B469-1CAFF8845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4AC96-1D03-4F26-8FA0-BEBC377B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B4246-ED6F-48F2-9213-87C7F2319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59B11-1999-44C1-ABBD-290E1CB4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A74F8-FA0D-4B55-86E4-883B11CA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807B-07B8-4BBC-A52C-022E9AC7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67BA9-7C97-4850-919D-2A0705C91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3AD9-AD89-4468-B099-CC71F44B9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5F344-266A-408F-9612-1450BF99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71EB-EF7D-4C9C-A8D2-BDDC05F5D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D008-0870-428F-BCCC-22D142222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43FF-A5E3-4BDD-A301-865B56014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B5C3-6953-4074-9E23-DBBD4D787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EA88-10B5-49F0-9251-85E4FB06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48DB-91E5-435B-A9CB-7B385C7C3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5B636-0348-4FFD-BA12-5CA9C217291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7608F-705A-4FC1-89C7-5AB87BB5428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bp3.blogger.com/_Jydkd6e1imc/Rf8xezdHJ5I/AAAAAAAAAU0/AxJqfWU27cY/s1600-h/proyector+de+acetato.jp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zaphu.com/v1/wp-content/uploads/2007/12/microsoft-office-logo.png&amp;imgrefurl=http://www.zaphu.com/2007/12/12/how-to-create-a-poster-using-microsoft-powerpoint/&amp;usg=__IZwWFR91Ny6WpGysOy8xXOM7rSw=&amp;h=378&amp;w=519&amp;sz=88&amp;hl=es&amp;start=2&amp;tbnid=UqcsJs_pdn7GFM:&amp;tbnh=95&amp;tbnw=131&amp;prev=/images%3Fq%3Doffice%2Bpowerpoint%2Blogo%26gbv%3D2%26hl%3Des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images.google.es/imgres?imgurl=http://www.fhis.hn/_layouts/paginas/noticias/images/powerpoint_logo.gif&amp;imgrefurl=http://articulo.mercadolibre.com.pe/MPE-4360699-nokia-e65-completamente-nuevo-symbian-3g-office-pdf-zip-_JM&amp;usg=__mh4tRwPUhkrZOPYSlbSyBPLP4R8=&amp;h=256&amp;w=256&amp;sz=25&amp;hl=es&amp;start=1&amp;tbnid=MeR9PC7VUFIzXM:&amp;tbnh=111&amp;tbnw=111&amp;prev=/images%3Fq%3Doffice%2Bpowerpoint%2Blogo%26gbv%3D2%26hl%3Des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taciones digita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ramientas para “explicar”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é es una Presentación Digi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documento multimedia: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de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l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ósito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ar “algo” ante un públ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jarla disponible en Inter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lideshare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rígen de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diapos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905200" cy="17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76360" y="4581360"/>
            <a:ext cx="66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transpa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3"/>
          </p:cNvPr>
          <p:cNvPicPr/>
          <p:nvPr/>
        </p:nvPicPr>
        <p:blipFill>
          <a:blip r:embed="rId4"/>
          <a:srcRect l="13744" t="0" r="26664" b="0"/>
          <a:stretch/>
        </p:blipFill>
        <p:spPr>
          <a:xfrm>
            <a:off x="468360" y="3141720"/>
            <a:ext cx="1873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owerPoint de Microsoft Off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pietario (de pag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mpress de OpenOffice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ftware li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2565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249228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24360" y="4653000"/>
            <a:ext cx="1872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s de empezar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 de la presentación cla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as principales a transmi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eño adecu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recargado de 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 que ayuden a comprender el conten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imación, interacción que ayuden e involucren al usuario en la present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 herramien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Nos centraremos en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PowerPoint…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entorn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0:40:35Z</dcterms:created>
  <dc:creator>angel</dc:creator>
  <dc:description/>
  <dc:language>en-US</dc:language>
  <cp:lastModifiedBy>angel</cp:lastModifiedBy>
  <dcterms:modified xsi:type="dcterms:W3CDTF">2009-01-13T11:33:37Z</dcterms:modified>
  <cp:revision>6</cp:revision>
  <dc:subject/>
  <dc:title>Presentaciones digitales</dc:title>
</cp:coreProperties>
</file>