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086-76FE-4806-9722-ED3729D8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BB0-836B-4E07-8B68-EE7786F7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AA1-12F4-4551-A1CF-171A1488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7E3-A235-4EF4-8578-5C182BB0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12D4-E693-4AC0-9319-D0C5E039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6294-F0C9-4CBA-80EB-3C4673BC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796A-25D9-441B-88E9-360CC53E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9EF6-771F-46C0-AB2E-0CB3E79A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BAAE-B9F6-40FB-BD8E-B2128EEB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8924-5BB1-4D10-860E-5624CF9E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D391-ED88-4024-8D11-034DD35B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4F1-0311-4368-8A72-09FC071F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D867-7B3A-48D4-8756-1D7DC4D4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1F24-E884-44EB-9908-2095C481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33F6-90A5-43A8-94F3-126D0ED2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3A8F-54A3-4D9F-9522-A4C3FB6E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D201-65B5-4422-A8D6-ADA82D8C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264-242E-457C-92BC-1F6F9755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569-897A-4DE0-AFB9-507E9E6A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BDF-4596-441D-8718-9CCCB34A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817-649F-4DFC-A90C-8648BD0E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BF9-8FFB-43F2-94D1-0D5E9BE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4D7-6261-465C-95D7-F49E5A30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D6D-A079-4926-BF6C-61DD3909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77C0-A1FF-4439-93D9-21AE6DA398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F69D-5FBF-4D10-A744-24228D14A4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lideshare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bp3.blogger.com/_Jydkd6e1imc/Rf8xezdHJ5I/AAAAAAAAAU0/AxJqfWU27cY/s1600-h/proyector+de+acetato.jp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es/imgres?imgurl=http://www.zaphu.com/v1/wp-content/uploads/2007/12/microsoft-office-logo.png&amp;imgrefurl=http://www.zaphu.com/2007/12/12/how-to-create-a-poster-using-microsoft-powerpoint/&amp;usg=__IZwWFR91Ny6WpGysOy8xXOM7rSw=&amp;h=378&amp;w=519&amp;sz=88&amp;hl=es&amp;start=2&amp;tbnid=UqcsJs_pdn7GFM:&amp;tbnh=95&amp;tbnw=131&amp;prev=/images%3Fq%3Doffice%2Bpowerpoint%2Blogo%26gbv%3D2%26hl%3Des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images.google.es/imgres?imgurl=http://www.fhis.hn/_layouts/paginas/noticias/images/powerpoint_logo.gif&amp;imgrefurl=http://articulo.mercadolibre.com.pe/MPE-4360699-nokia-e65-completamente-nuevo-symbian-3g-office-pdf-zip-_JM&amp;usg=__mh4tRwPUhkrZOPYSlbSyBPLP4R8=&amp;h=256&amp;w=256&amp;sz=25&amp;hl=es&amp;start=1&amp;tbnid=MeR9PC7VUFIzXM:&amp;tbnh=111&amp;tbnw=111&amp;prev=/images%3Fq%3Doffice%2Bpowerpoint%2Blogo%26gbv%3D2%26hl%3Des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taciones digita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ramientas para “explicar”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é es una Presentación Digit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documento multimedia: conti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áge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de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l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ósito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tar “algo” ante un públ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jarla disponible en Intern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lideshare.com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rígen de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89684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yectores de diapos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2905200" cy="174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76360" y="4581360"/>
            <a:ext cx="66596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yectores de transpar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3"/>
          </p:cNvPr>
          <p:cNvPicPr/>
          <p:nvPr/>
        </p:nvPicPr>
        <p:blipFill>
          <a:blip r:embed="rId4"/>
          <a:srcRect l="13744" t="0" r="26664" b="0"/>
          <a:stretch/>
        </p:blipFill>
        <p:spPr>
          <a:xfrm>
            <a:off x="468360" y="3141720"/>
            <a:ext cx="1873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owerPoint de Microsoft Off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pietario (de pag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mpress de OpenOffice.or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oftware lib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2565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51640" y="249228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724360" y="4653000"/>
            <a:ext cx="18720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tes de empezar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jetivo de la presentación cla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as principales a transmit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eño adecu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recargado de tex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ágenes que ayuden a comprender el conten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imación, interacción que ayuden e involucren al usuario en la present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 herramien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Nos centraremos en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PowerPoint…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 entorn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uev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chivo/Nu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75896"/>
          <a:stretch/>
        </p:blipFill>
        <p:spPr>
          <a:xfrm>
            <a:off x="3851280" y="1752480"/>
            <a:ext cx="4716360" cy="123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78796" t="15977" r="0" b="19751"/>
          <a:stretch/>
        </p:blipFill>
        <p:spPr>
          <a:xfrm>
            <a:off x="468360" y="2421000"/>
            <a:ext cx="2068560" cy="367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16360" y="3357720"/>
            <a:ext cx="5256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234720" indent="-2347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panel de Tareas, elegir op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 partir de plant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s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sentación ex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uev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chivo/Nu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0" t="0" r="0" b="75896"/>
          <a:stretch/>
        </p:blipFill>
        <p:spPr>
          <a:xfrm>
            <a:off x="3851280" y="1752480"/>
            <a:ext cx="4716360" cy="1236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78796" t="15977" r="0" b="19751"/>
          <a:stretch/>
        </p:blipFill>
        <p:spPr>
          <a:xfrm>
            <a:off x="468360" y="2421000"/>
            <a:ext cx="2068560" cy="3673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16360" y="3357720"/>
            <a:ext cx="5256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234720" indent="-2347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panel de Tareas, elegir op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 partir de plant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s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sentación ex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0:40:35Z</dcterms:created>
  <dc:creator>angel</dc:creator>
  <dc:description/>
  <dc:language>en-US</dc:language>
  <cp:lastModifiedBy>angel</cp:lastModifiedBy>
  <dcterms:modified xsi:type="dcterms:W3CDTF">2009-01-13T11:33:37Z</dcterms:modified>
  <cp:revision>6</cp:revision>
  <dc:subject/>
  <dc:title>Presentaciones digitales</dc:title>
</cp:coreProperties>
</file>