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83F9-70D7-40FB-BCBE-487D4DE6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5404-DF74-4C8B-AE86-2DC2530C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8E1-4A9C-4B82-BFF0-5AB5DA61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F97-1404-4B07-8E5D-8EA8A8B39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ECA07-3B03-41C7-A671-52B2CD671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E6562-72B0-4679-92E8-B383B071E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8EAE7-1BC9-4959-A1D6-824D049A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5978-EE0A-4DD5-A1D7-FA3B65B8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D3768-739A-4824-9DA8-F2C1ECAA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B6808-0A4A-40B9-977F-9DB53A344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84AD-CBCE-4C63-959C-0A480C46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378A-1BFC-4456-B206-EF43D557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0F504-F2A5-4C56-96C0-DD30313A2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D5E49-44C9-4DFC-9799-59597737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CCDB-ABC2-4187-A595-6A74F5E56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D0BD-E1FB-4978-9A30-1E2956947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F3068-B055-45F3-AA51-69654494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9D94-C3D4-40DE-8E9B-493D722D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B93B-1911-464E-A0DE-140D45C07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3F97-9A48-49DB-9E3E-9E41D999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3F8C-5867-4FF5-94A8-63200DE0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2AB4-2740-48B8-A0CD-1E6AEF536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F927-3AAF-4C07-857A-3DA96F461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BBA3-59F7-4AC9-ACCA-05E5AB7B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ADC8-195A-4347-BD60-B4E09F9CAFC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20F1-A96F-4490-8500-BB4E7CAB7E5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lideshare.com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http://bp3.blogger.com/_Jydkd6e1imc/Rf8xezdHJ5I/AAAAAAAAAU0/AxJqfWU27cY/s1600-h/proyector+de+acetato.jpg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es/imgres?imgurl=http://www.zaphu.com/v1/wp-content/uploads/2007/12/microsoft-office-logo.png&amp;imgrefurl=http://www.zaphu.com/2007/12/12/how-to-create-a-poster-using-microsoft-powerpoint/&amp;usg=__IZwWFR91Ny6WpGysOy8xXOM7rSw=&amp;h=378&amp;w=519&amp;sz=88&amp;hl=es&amp;start=2&amp;tbnid=UqcsJs_pdn7GFM:&amp;tbnh=95&amp;tbnw=131&amp;prev=/images%3Fq%3Doffice%2Bpowerpoint%2Blogo%26gbv%3D2%26hl%3Des" TargetMode="External"/><Relationship Id="rId3" Type="http://schemas.openxmlformats.org/officeDocument/2006/relationships/image" Target="../media/image4.png"/><Relationship Id="rId4" Type="http://schemas.openxmlformats.org/officeDocument/2006/relationships/hyperlink" Target="http://images.google.es/imgres?imgurl=http://www.fhis.hn/_layouts/paginas/noticias/images/powerpoint_logo.gif&amp;imgrefurl=http://articulo.mercadolibre.com.pe/MPE-4360699-nokia-e65-completamente-nuevo-symbian-3g-office-pdf-zip-_JM&amp;usg=__mh4tRwPUhkrZOPYSlbSyBPLP4R8=&amp;h=256&amp;w=256&amp;sz=25&amp;hl=es&amp;start=1&amp;tbnid=MeR9PC7VUFIzXM:&amp;tbnh=111&amp;tbnw=111&amp;prev=/images%3Fq%3Doffice%2Bpowerpoint%2Blogo%26gbv%3D2%26hl%3Des" TargetMode="External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esentaciones digital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erramientas para “explicar”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Qué es una Presentación Digit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 documento multimedia: contien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ex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ágen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ide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l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pósito: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resentar “algo” ante un públic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Dejarla disponible en Interne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www.slideshare.com</a:t>
            </a:r>
            <a:r>
              <a:rPr b="0" lang="en-US" sz="2300" spc="-1" strike="noStrike" u="sng">
                <a:solidFill>
                  <a:srgbClr val="000000"/>
                </a:solidFill>
                <a:uFillTx/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Orígen de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896840"/>
            <a:ext cx="8001000" cy="7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yectores de diapositiva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867280" y="1844640"/>
            <a:ext cx="2905200" cy="17431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2376360" y="4581360"/>
            <a:ext cx="665964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yectores de transparenci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>
            <a:hlinkClick r:id="rId3"/>
          </p:cNvPr>
          <p:cNvPicPr/>
          <p:nvPr/>
        </p:nvPicPr>
        <p:blipFill>
          <a:blip r:embed="rId4"/>
          <a:srcRect l="13744" t="0" r="26664" b="0"/>
          <a:stretch/>
        </p:blipFill>
        <p:spPr>
          <a:xfrm>
            <a:off x="468360" y="3141720"/>
            <a:ext cx="187308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oftwar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PowerPoint de Microsoft Offic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Propietario (de pag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Impress de OpenOffice.org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oftware lib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308720" y="2565360"/>
            <a:ext cx="1247760" cy="9050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651640" y="2492280"/>
            <a:ext cx="1056960" cy="10573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6"/>
          <a:stretch/>
        </p:blipFill>
        <p:spPr>
          <a:xfrm>
            <a:off x="5724360" y="4653000"/>
            <a:ext cx="187200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ntes de empezar…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bjetivo de la presentación cla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deas principales a transmiti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iseño adecuad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recargado de text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Imágenes que ayuden a comprender el conteni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nimación, interacción que ayuden e involucren al usuario en la present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 herramient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Nos centraremos en 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Verdana"/>
              </a:rPr>
              <a:t>PowerPoint…</a:t>
            </a:r>
            <a:endParaRPr b="0" lang="en-US" sz="5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El entorno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66640" y="1752480"/>
            <a:ext cx="800100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ev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chivo/Nu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rcRect l="0" t="0" r="0" b="75896"/>
          <a:stretch/>
        </p:blipFill>
        <p:spPr>
          <a:xfrm>
            <a:off x="3851280" y="1752480"/>
            <a:ext cx="4716360" cy="12369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78796" t="15977" r="0" b="19751"/>
          <a:stretch/>
        </p:blipFill>
        <p:spPr>
          <a:xfrm>
            <a:off x="468360" y="2421000"/>
            <a:ext cx="2068560" cy="367344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916360" y="3357720"/>
            <a:ext cx="5256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234720" indent="-2347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panel de Tareas, elegir op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partir de plant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sentación ex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Nueva present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2436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rchivo/Nuev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rcRect l="0" t="0" r="0" b="75896"/>
          <a:stretch/>
        </p:blipFill>
        <p:spPr>
          <a:xfrm>
            <a:off x="3851280" y="1752480"/>
            <a:ext cx="4716360" cy="12369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rcRect l="78796" t="15977" r="0" b="19751"/>
          <a:stretch/>
        </p:blipFill>
        <p:spPr>
          <a:xfrm>
            <a:off x="468360" y="2421000"/>
            <a:ext cx="2068560" cy="3673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916360" y="3357720"/>
            <a:ext cx="525600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0000"/>
          </a:bodyPr>
          <a:p>
            <a:pPr marL="234720" indent="-2347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En panel de Tareas, elegir op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En blan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 partir de plantill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s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3960" indent="-218160">
              <a:lnSpc>
                <a:spcPct val="10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esentación existen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3T10:40:35Z</dcterms:created>
  <dc:creator>angel</dc:creator>
  <dc:description/>
  <dc:language>en-US</dc:language>
  <cp:lastModifiedBy>angel</cp:lastModifiedBy>
  <dcterms:modified xsi:type="dcterms:W3CDTF">2009-01-13T11:33:37Z</dcterms:modified>
  <cp:revision>6</cp:revision>
  <dc:subject/>
  <dc:title>Presentaciones digitales</dc:title>
</cp:coreProperties>
</file>